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A5CB4-7E7D-4D9B-9DDC-38B06FBC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4006E-FEB5-4510-828B-B0C74512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79751-AF70-4287-8768-D87B17E1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61C64-0A40-4BE6-BB03-A175FD22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100B-818B-4881-9601-488E4799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6417-E12D-47B6-A8A5-6DE2C93E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674A-0F76-4536-A9C1-CF1DD24F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1A15-C3E1-4F2B-A5F1-B037734B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171C-CC99-4D05-8B35-4871E541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CAD4-AAD4-4396-90DD-AD5A5F59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890B-E611-4925-99E1-C08F9E8B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CE990-7868-4AD7-9C9A-DD6FF4B3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AD76-9C64-4AB2-A93C-3B22512F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959B-7CA4-4233-91FC-CC374175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310C-A7B8-4C5F-B64E-26EE6625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480C-8046-4A51-8704-57F20609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8D45-0C10-4CE8-B8A5-86114BB2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E0912-F291-4E21-AD24-EB5AE9EC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40AC0-1104-4971-8D53-5AB43B62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EB55C-0420-4B1C-9925-773A4909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64A26-76DB-48AD-A30C-7369BFC0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D2564-23DB-48C0-9A92-B6E3F0F9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11F6-C4BC-45E8-A457-A3D5A2BD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14022-B4C6-4ACB-A44C-21E6AA08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7188-B161-4F65-97D9-E17D3737B7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A075-ED57-4991-BFC5-A7C5C4A981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rogramozás I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apo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kár kiszám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elekár kiszámítási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érem, adja meg, milyen széles a telk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érem, adja meg, milyen hosszú a telk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telek 10000Ft-os négyzetméter-áron 20000000 Ft-ot é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zérlő szerkez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ekv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elekció (elágaz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áció (cikl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ekv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utasítás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utasítás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utasítás 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utasítás pél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értékadás: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a =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osszeg = x +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a = a +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függvényhív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printf("Ez egy program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szelek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iterá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elek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 a feltétel ig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tasítás(o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 a feltétel ig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tasítás(o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ülönb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tasítás(o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 a feltétel 1 ig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tasítás(o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ülönben ha a feltétel 2 ig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tasítás (o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ülönben ha a feltétel n ig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tasítás(o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ülönb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tasítás(o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elekció szintaktiká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i="1" lang="hu-HU" sz="1800" spc="-1" strike="noStrike">
                <a:solidFill>
                  <a:srgbClr val="000000"/>
                </a:solidFill>
                <a:latin typeface="Courier New"/>
              </a:rPr>
              <a:t>feltétel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utasítás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utasítás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utasítás 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else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Courier New"/>
              </a:rPr>
              <a:t>utasításblok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Courier New"/>
              </a:rPr>
              <a:t>utasításblok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elekció 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ha az összeg kisebb, mi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írd ki, hogy "Az összeg negatív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különben ha az összeg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írd ki, hogy "Az összeg 0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külön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írd ki, hogy "Az összeg pozitív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if(osszeg&lt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printf(”Az összeg negatív.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else if(osszeg=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printf(”Az összeg 0.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printf(”Az összeg pozitív.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övekményes/for cik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ltételes”/while cik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öltesztel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átultesztel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Növekményes/for cik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míg a ciklusszámláló nem éri el az n-t, ciklusszámláló növelése (ciklus végé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utasítás(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for(</a:t>
            </a:r>
            <a:r>
              <a:rPr b="0" i="1" lang="hu-HU" sz="2400" spc="-1" strike="noStrike">
                <a:solidFill>
                  <a:srgbClr val="000000"/>
                </a:solidFill>
                <a:latin typeface="Courier New"/>
              </a:rPr>
              <a:t>kezdőérték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i="1" lang="hu-HU" sz="2400" spc="-1" strike="noStrike">
                <a:solidFill>
                  <a:srgbClr val="000000"/>
                </a:solidFill>
                <a:latin typeface="Courier New"/>
              </a:rPr>
              <a:t>feltétel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i="1" lang="hu-HU" sz="2400" spc="-1" strike="noStrike">
                <a:solidFill>
                  <a:srgbClr val="000000"/>
                </a:solidFill>
                <a:latin typeface="Courier New"/>
              </a:rPr>
              <a:t>növekmény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Courier New"/>
              </a:rPr>
              <a:t>utasításblok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él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for(i=1;i&lt;=100;i=i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ourier New"/>
              </a:rPr>
              <a:t>printf(”Varga Ágne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löltesztelő while cik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amíg a feltétel ig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utasítás(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while(feltét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Courier New"/>
              </a:rPr>
              <a:t>utasításblok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Pél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i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while(i&lt;=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printf(”Varga Ágne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átultesztelő while cik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utasítás(o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míg a feltétel ig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utasításblok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} while(</a:t>
            </a:r>
            <a:r>
              <a:rPr b="0" i="1" lang="hu-HU" sz="2000" spc="-1" strike="noStrike">
                <a:solidFill>
                  <a:srgbClr val="000000"/>
                </a:solidFill>
                <a:latin typeface="Courier New"/>
              </a:rPr>
              <a:t>feltétel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Pél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i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printf(”Varga Ágnes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} while(i&lt;=1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e val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ből á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asítások + ad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yszerű program tervez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a problé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zzávalók/adat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ódszer (algoritmus) megad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ta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k árának kiszámí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éma: Mennyi az ára egy adott telekne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zzávalók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nyibe kerül egy négyzetmé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kkora a tel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goldás algoritmu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djuk a telek hosszát és szélesség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ép szorozza össze a szélességet, hosszúságot és az á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Írja ki az eredmény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aptevékenységek és ad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ptevékenység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olvas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rtékad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ír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ltoz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st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kár kiszám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elekár kiszámítási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érem, adja meg, milyen széles a telk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kár kiszám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elekár kiszámítási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érem, adja meg, milyen széles a telk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kár kiszám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elekár kiszámítási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érem, adja meg, milyen széles a telk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érem, adja meg, milyen hosszú a telk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kár kiszám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elekár kiszámítási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érem, adja meg, milyen széles a telk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érem, adja meg, milyen hosszú a telk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7:07:08Z</dcterms:created>
  <dc:creator>Varga Ágnes</dc:creator>
  <dc:description/>
  <dc:language>en-US</dc:language>
  <cp:lastModifiedBy>Varga Ágnes</cp:lastModifiedBy>
  <dcterms:modified xsi:type="dcterms:W3CDTF">2010-09-12T17:52:48Z</dcterms:modified>
  <cp:revision>30</cp:revision>
  <dc:subject/>
  <dc:title>Programozás I.</dc:title>
</cp:coreProperties>
</file>