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82498-F11B-41FF-AF64-70C5B6405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4A610-F691-45F8-8452-17FE3E34B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5B989-08D1-44E2-B819-12F01F7B6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E9537-F6EB-4AA8-A9B8-7293E22FF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8C8D2-2C9E-4C2A-BF42-B6972EBF7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F85D6-9727-43B6-B0EA-70A6F5E40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E4548-6284-451A-87CB-AFA3F4219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525BD-8727-46DA-8EDC-441309967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7D6C6-50E5-4B8E-BE69-C30792714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A19FF-89EE-4A64-B88F-09696FC8D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540EA-60F3-49E8-9163-ABF508B2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BCF07-4B5D-42BF-94FF-E25FBD47A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552AF-FD18-4A02-A59D-255D0E63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45071-3D1A-42E5-8940-35DD1ADD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D7A95-8C05-4EE1-8686-CBD8B4ABD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5F645-5A84-403C-8244-713DB1A3F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C476D-9EB6-4BA2-9CFB-B20CF5914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9123D-7B65-4A31-909B-B7F1E7824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5DAB2-12B8-49F3-A8FA-121B79D58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42500-260F-44F4-B7DE-689237A58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703B3-CB29-431A-AE83-9CB2473B2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BDA64-5772-4B7E-B4D0-7FC3BF1B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C61B2-E461-4F48-ACC5-D537653C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55B77-08BE-4536-AD88-16825457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87A37-BEA5-4D2A-ACEE-805B0AAF5C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D8408-FF1B-4045-95AE-7C86BDD7B2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Programozás I.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lapok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ekár kiszámít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elekár kiszámítási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Kérem, adja meg, milyen széles a telk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Kérem, adja meg, milyen hosszú a telk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telek 10000Ft-os négyzetméter-áron 20000000 Ft-ot é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zérlő szerkezet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zekv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zelekció (elágazá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eráció (cikl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zekve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utasítás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utasítás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utasítás 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utasítás pél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értékadás: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a =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osszeg = x + 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a = a +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függvényhív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printf("Ez egy program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szelekc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iterác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zelekci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a a feltétel iga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tasítás(o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a a feltétel iga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tasítás(o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különb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tasítás(o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a a feltétel 1 iga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tasítás(o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különben ha a feltétel 2 iga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tasítás (o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különben ha a feltétel n iga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tasítás(o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különb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tasítás(o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zelekció szintaktiká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0" i="1" lang="hu-HU" sz="1800" spc="-1" strike="noStrike">
                <a:solidFill>
                  <a:srgbClr val="000000"/>
                </a:solidFill>
                <a:latin typeface="Courier New"/>
              </a:rPr>
              <a:t>feltétel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utasítás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utasítás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utasítás 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else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hu-HU" sz="1800" spc="-1" strike="noStrike">
                <a:solidFill>
                  <a:srgbClr val="000000"/>
                </a:solidFill>
                <a:latin typeface="Courier New"/>
              </a:rPr>
              <a:t>utasításblok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hu-HU" sz="1800" spc="-1" strike="noStrike">
                <a:solidFill>
                  <a:srgbClr val="000000"/>
                </a:solidFill>
                <a:latin typeface="Courier New"/>
              </a:rPr>
              <a:t>utasításblok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zelekció pél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Verdana"/>
              </a:rPr>
              <a:t>ha az összeg kisebb, mi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Verdana"/>
              </a:rPr>
              <a:t>írd ki, hogy "Az összeg negatív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Verdana"/>
              </a:rPr>
              <a:t>különben ha az összeg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Verdana"/>
              </a:rPr>
              <a:t>írd ki, hogy "Az összeg 0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Verdana"/>
              </a:rPr>
              <a:t>külön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Verdana"/>
              </a:rPr>
              <a:t>írd ki, hogy "Az összeg pozitív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if(osszeg&lt;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printf(”Az összeg negatív.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else if(osszeg==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printf(”Az összeg 0.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printf(”Az összeg pozitív.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ráci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Növekményes/for cik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Feltételes”/while cik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löltesztel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átultesztel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Növekményes/for cik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amíg a ciklusszámláló nem éri el az n-t, ciklusszámláló növelése (ciklus végén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utasítás(o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for(</a:t>
            </a:r>
            <a:r>
              <a:rPr b="0" i="1" lang="hu-HU" sz="2400" spc="-1" strike="noStrike">
                <a:solidFill>
                  <a:srgbClr val="000000"/>
                </a:solidFill>
                <a:latin typeface="Courier New"/>
              </a:rPr>
              <a:t>kezdőérték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i="1" lang="hu-HU" sz="2400" spc="-1" strike="noStrike">
                <a:solidFill>
                  <a:srgbClr val="000000"/>
                </a:solidFill>
                <a:latin typeface="Courier New"/>
              </a:rPr>
              <a:t>feltétel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i="1" lang="hu-HU" sz="2400" spc="-1" strike="noStrike">
                <a:solidFill>
                  <a:srgbClr val="000000"/>
                </a:solidFill>
                <a:latin typeface="Courier New"/>
              </a:rPr>
              <a:t>növekmény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hu-HU" sz="2400" spc="-1" strike="noStrike">
                <a:solidFill>
                  <a:srgbClr val="000000"/>
                </a:solidFill>
                <a:latin typeface="Courier New"/>
              </a:rPr>
              <a:t>utasításblok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Pél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for(i=1;i&lt;=100;i=i+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printf(”Varga Ágnes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Elöltesztelő while cik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Verdana"/>
              </a:rPr>
              <a:t>amíg a feltétel iga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Verdana"/>
              </a:rPr>
              <a:t>utasítás(o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while(feltét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hu-HU" sz="1800" spc="-1" strike="noStrike">
                <a:solidFill>
                  <a:srgbClr val="000000"/>
                </a:solidFill>
                <a:latin typeface="Courier New"/>
              </a:rPr>
              <a:t>utasításblok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Pél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i=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while(i&lt;=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printf(”Varga Ágne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i = i +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Hátultesztelő while cik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utasítás(o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amíg a feltétel iga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utasításblok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} while(</a:t>
            </a:r>
            <a:r>
              <a:rPr b="0" i="1" lang="hu-HU" sz="2000" spc="-1" strike="noStrike">
                <a:solidFill>
                  <a:srgbClr val="000000"/>
                </a:solidFill>
                <a:latin typeface="Courier New"/>
              </a:rPr>
              <a:t>feltétel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Péld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i=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printf(”Varga Ágnes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i = i + 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} while(i&lt;=10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pr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re való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ből á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asítások + adat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gyszerű program tervezé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 a problém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zzávalók/adato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ódszer (algoritmus) megad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tat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ek árának kiszámítá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éma: Mennyi az ára egy adott telekne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zzávalók”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nyibe kerül egy négyzetmé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kkora a tele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goldás algoritmus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djuk a telek hosszát és szélességé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ép szorozza össze a szélességet, hosszúságot és az ár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Írja ki az eredmény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aptevékenységek és adat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aptevékenység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olvas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rtékad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ír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áltoz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nst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ekár kiszámít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elekár kiszámítási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Kérem, adja meg, milyen széles a telk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ekár kiszámít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elekár kiszámítási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Kérem, adja meg, milyen széles a telk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ekár kiszámít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elekár kiszámítási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Kérem, adja meg, milyen széles a telk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Kérem, adja meg, milyen hosszú a telk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ekár kiszámít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elekár kiszámítási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Kérem, adja meg, milyen széles a telk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Kérem, adja meg, milyen hosszú a telk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2T17:07:08Z</dcterms:created>
  <dc:creator>Varga Ágnes</dc:creator>
  <dc:description/>
  <dc:language>en-US</dc:language>
  <cp:lastModifiedBy>Varga Ágnes</cp:lastModifiedBy>
  <dcterms:modified xsi:type="dcterms:W3CDTF">2010-09-12T17:52:48Z</dcterms:modified>
  <cp:revision>30</cp:revision>
  <dc:subject/>
  <dc:title>Programozás I.</dc:title>
</cp:coreProperties>
</file>